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88B-C3D9-41AC-9086-EC18701B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C77-180E-4C60-B7FB-BF27D57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69E-1EF7-479C-9445-4D5794C6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EFC-279C-43F5-9295-8A3A431B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E06C-D037-49D9-8818-04010F31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448-D8F9-4592-AB7D-EF892DC8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52B7-36C9-475B-99A3-CAF8EDE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A88-016F-4B90-81C2-4DD5E53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0684-E9CF-4CFD-B435-A4A0383D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5BD6-C729-428C-833E-C4C8FEE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7C2D-290A-4790-A74D-8FA2174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606-779B-4BF0-AAE0-A6711C0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032F-3736-468E-88CF-1B1D3627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F08B-33DC-45C9-BE21-0B601E8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8F38-471F-48F2-9E59-F9EA688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6C7-A4E6-46FF-8C78-9B01F56A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6B98-499B-4168-A0AA-3F6ED38C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140-1F06-4939-A06F-9E54711E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D22-B72A-454B-BAA6-0E2FB93F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FAD-F120-4F38-AA99-B1B98C9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481-39C2-4AB0-B1D8-3FB3EAC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15B-79E3-4A12-8389-57A2537D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9CE-69AB-4784-9589-24AAFC3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451-BE70-4E9F-8505-96DE96DE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018-4795-433B-94B0-CE2097234C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27F-5C74-4B87-A283-0D320C4CD6A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38280" y="35809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, Lesson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. 7:1 – 9: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ages 25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335268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t, let’s review first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Israel cross the Jordan riv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memorials were set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two important events occurred at Gilg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as Jericho defe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as Rahab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 does she play la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5362560" cy="6718680"/>
            <a:chOff x="0" y="0"/>
            <a:chExt cx="5362560" cy="6718680"/>
          </a:xfrm>
        </p:grpSpPr>
        <p:pic>
          <p:nvPicPr>
            <p:cNvPr id="11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6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846240" y="638640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480" y="64522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in of Ach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7:1-26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defeated at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Israelites kill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-1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: Si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1-1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find the “accursed” ma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3-1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han, and all his possessions, destroy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:19-26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did Achan tak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81080"/>
            <a:ext cx="3657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feat of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1-29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 to take A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1-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of Ai ambushed by Israel – none escap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9-2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 destroyed by fi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3-28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 of Ai hang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29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at was Joshua doing during the battl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809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3200400" y="1752480"/>
            <a:ext cx="228600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38680" y="380880"/>
            <a:ext cx="3267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Central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rael Claims the L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8:30-35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builds an alta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0-31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of Moses written on the ston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2-33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aw read to ALL the peop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:34-3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ere was the ark at this time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member: Deut. 27:1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638680"/>
            <a:ext cx="3809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entral Campaign is finished!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87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057400"/>
            <a:ext cx="380988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ngs gather to fight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-2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strategy to deceive Joshu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3-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shua and the elders fall for the stor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6-14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made a treaty with the Gibeonit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5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13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H="1">
            <a:off x="2895120" y="1752480"/>
            <a:ext cx="2590920" cy="2743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4343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038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Ebal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t. Gerizim</a:t>
            </a:r>
            <a:endParaRPr b="0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4120" y="2057400"/>
            <a:ext cx="38098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Deceit of the Gibeoni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9:1-27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rael learns of the deceit but honors the trea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16-20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beonites becomes servants to Isra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:21-27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Why was it wrong to make a treaty?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267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419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8-10-04T22:29:39Z</dcterms:modified>
  <cp:revision>27</cp:revision>
  <dc:subject/>
  <dc:title>Joshua: The New Leader</dc:title>
</cp:coreProperties>
</file>